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A04-FEB3-43CA-8270-36DBEAEF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365-1FD5-4F3E-BB7C-3B67AF4E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642-812E-4053-9531-B7B36508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418-FFDB-47F1-9789-E9BC18DF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C1EE-9232-4F11-B73A-9C4FF991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7E13-6452-469B-977E-50D9816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F698-AE7B-4657-B82D-B48C2A7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5947-3571-4E0B-8B66-5D70D68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A97-108B-4D2D-9858-12DA0740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923E-8121-4E7F-A06F-F36E3E6E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A5F3-D19F-4C98-9342-BA89F6E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9E7-EB8F-43B3-B9E7-B2098D1F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F18-491D-46A5-8BA6-3ADAAD8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D63-1392-44FA-AA60-940D7D95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A0ED-4D98-4C71-A413-D88294E5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2A52-CAEE-4F3B-A9EC-52B1B640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3A4B-E762-461D-934C-FB426151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AC6-4EBD-406E-A727-EE923539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660-C8D7-4F35-AD7E-F99CDA8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5F0-B3C1-4AA9-AA7B-D2B86EE5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F00-3D49-4DE3-9B78-021DBCE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A97-3815-47AD-8AA0-FF81C23F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1B7-282F-4FA7-BFBA-E93AE7D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FCD-55ED-4C3B-BE4B-AA27F947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1C24-CD5B-4505-922C-BBF21D13A03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7663-9CFE-4399-A06E-AE3040EDAFF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582948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garaj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boni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5934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 manisó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58291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isó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manisó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lujos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46864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ocin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coci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fabulos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0673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omed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bell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539136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sala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impresiona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4686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bañ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gran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733920" y="3430440"/>
            <a:ext cx="434340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uar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magníf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49910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pat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boni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5486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jard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moder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3:33Z</dcterms:created>
  <dc:creator>moscaritoloste</dc:creator>
  <dc:description/>
  <dc:language>en-US</dc:language>
  <cp:lastModifiedBy>moscaritoloste</cp:lastModifiedBy>
  <dcterms:modified xsi:type="dcterms:W3CDTF">2013-04-03T17:50:52Z</dcterms:modified>
  <cp:revision>7</cp:revision>
  <dc:subject/>
  <dc:title>La mansión</dc:title>
</cp:coreProperties>
</file>